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8996-A925-4B1D-A063-60848DD61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4521-696A-413E-AB59-6E1764801E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DE0-63D8-4D8F-A2D2-F24B5B9E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043-E20F-4930-BB37-BD95DBF2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A92-E29F-40A1-9D89-214D0D4B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B56-C2F6-4292-9AF9-7E5C0D87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A24F-C14A-4525-8386-627FBECF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2AF7-5403-40F1-9E66-C837D8A3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7A1F-B084-43AE-BD52-C60DD3E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0641-8A04-4634-8157-48922A4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73A5-249C-4997-B0AF-24AFF762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4842-4AB9-4E51-B0B3-8378151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CC29-E279-4D2D-BCDB-4B5097B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DCE-D4E1-4473-9587-5C5D3937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2076-79D8-4B07-BF74-3DD5D3D6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CA54-E272-4C0B-A220-2262494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5E3-0F4B-4266-86C9-1B2490FF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B43-B312-4FC6-9E49-BC334BC5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CD5-632D-4CE3-80FC-27501A19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B05D-1D9D-424F-9026-608C8767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F9E9-2F1C-4A06-AD5B-18964C62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C1CA-4DA6-477D-AC26-F4AE8723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ACA6-AA1B-48F2-BDFD-BF3BD848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E685-0E5F-405D-97E7-5D32D961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B35-C34F-4477-B7E8-964F1E03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8BED-554C-4B9F-BBA7-F33857F3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DBC4-0AE1-4B80-ABF7-F864810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0459-90B5-4F58-AE67-26248E2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4454-36CF-4B5A-A231-FD5989E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80DE-2FCC-4782-BB76-DAF4B96F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2CF3-AF43-479B-B70C-73D42ACC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D620-73F2-4AE8-AAA9-846A0CF7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1F0C-3C92-40D9-842A-8CD88639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E0A3-E072-4096-9E76-ECA3AD5B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BAF9-65B6-4CAE-9D4F-64CAC3B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BA7-433F-43CF-A117-8CC91FC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1A8B-EDBF-4DAF-8F86-29B60090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362B-60BE-402F-9588-CE181178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AD33-1E39-465C-BC10-ABBE290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7BD3-6DF5-49C4-8CFF-A8ED246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DCB1-CCD5-4CC7-B17B-98D89F3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BCC3-2E2D-43DC-953C-3BB525C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B7C9-3502-4926-BE3E-6FB6E755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601E-EED9-4E3F-A48D-578DCB1E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FA42-4A59-4D0A-9FD4-9214D9F1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634-C5F4-4AC3-9AD4-5F1A398F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9EB-3A87-4B27-B84B-7F4EE5AA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40F-98B5-42CF-A0C5-A92E7D9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0CD-B949-49D4-990B-7D327BD1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F0B-CFDE-4A10-B9AC-AF625BE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78E1-8147-42DB-9298-A44F19CF65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1C9E-E174-4CEB-8F97-DA19F45FF6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B017-5661-4284-A132-A1C6964E08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9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E26-FDAB-4A82-AFC5-9EC3AE9EB1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ikipedia.ru/" TargetMode="External"/><Relationship Id="rId2" Type="http://schemas.openxmlformats.org/officeDocument/2006/relationships/hyperlink" Target="http://www.images.google.ru/" TargetMode="External"/><Relationship Id="rId3" Type="http://schemas.openxmlformats.org/officeDocument/2006/relationships/hyperlink" Target="http://www.bing.r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9567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Атомные электростанции или угольные – </a:t>
            </a:r>
            <a:br>
              <a:rPr sz="6000"/>
            </a:br>
            <a:r>
              <a:rPr b="1" lang="ru-RU" sz="6000" spc="-1" strike="noStrike">
                <a:solidFill>
                  <a:srgbClr val="f63838"/>
                </a:solidFill>
                <a:latin typeface="Arial"/>
              </a:rPr>
              <a:t>что лучше?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5661000"/>
            <a:ext cx="5796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 231 Шибанова Н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99680" y="571320"/>
            <a:ext cx="807732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большая площадь под АЭС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тсутствии утечек – почти никакого загрязнения атмосфе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ительно независима от местоположения сыр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00"/>
                </a:solidFill>
                <a:latin typeface="Tahoma"/>
              </a:rPr>
              <a:t>Недостатки атомных станц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280" y="174600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блучённое топли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пасно, требует сложных и дорогих мер по переработке и хран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желателен режим работы с переменной мощностью для реакторов, работающих н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пловых нейтрона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915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аботе АЭС в атмосферу выбрасывается некоторое количество ионизированного газа, однако обычная тепловая электростанция вместе с дымом выводит ещё большее количество радиационных выбросов, из-за естественного содержания радиоактивных элементов в каменном угл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БЕЛОЯРСКАЯ АТОМНАЯ ЭЛЕКТРОСТАНЦИЯ. Урал"/>
          <p:cNvPicPr/>
          <p:nvPr/>
        </p:nvPicPr>
        <p:blipFill>
          <a:blip r:embed="rId1"/>
          <a:stretch/>
        </p:blipFill>
        <p:spPr>
          <a:xfrm>
            <a:off x="2124000" y="3213000"/>
            <a:ext cx="4456080" cy="3368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ое строительство и ещё дороже размонтиров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уются радиоактивные отходы (глобальная проблем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точки зрения статистики и страхования крупные аварии крайне маловероятны, однако последствия такого инцидента крайне тяжёл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96316223" descr="96316223"/>
          <p:cNvPicPr/>
          <p:nvPr/>
        </p:nvPicPr>
        <p:blipFill>
          <a:blip r:embed="rId1"/>
          <a:stretch/>
        </p:blipFill>
        <p:spPr>
          <a:xfrm>
            <a:off x="2987640" y="2637000"/>
            <a:ext cx="5832360" cy="38923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324000" y="344232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йчас Чернобыль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глядит так с высоты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тичьего полета. А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ньше здесь было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ного людей.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8748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арте 1979 г. произошла самая тяжёлая до Чернобыля авария на американской АЭС. После этого случая американцы не ввели в строй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ни одного реактора!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Швеции принято решение о постепенном закрытии АЭС. Лишь Великобритания, Франция и Россия планируют строительство новых АЭС, несмотря на активное сопротивление общественности. Во Франции 74% энергии – энергия АЭС, ежегодно 200 тыс школьников ходят туда на экскур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ырьём для АЭС являются уран и торий – их запасов в земной коре хватит на 50 тыс. лет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морской воде урана в 1000 раз больше, чем в земной кор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т не стоит так осторожничать???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ть «пороховой погреб» в стране с не очень развитой технологией или социальной нестабильностью –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ЭТ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БЕЗУМ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26436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78feb"/>
                </a:solidFill>
                <a:latin typeface="Tahoma"/>
              </a:rPr>
              <a:t>Перспекти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мотря на указанные недостатки, атомная энергия представляется самой перспективной. Альтернативные способы получения энергии, за счёт энергии приливов, ветра, Солнца, геотермальных источников и др. на данный момент отличаются невысоким уровнем добываемой энергии и её низкой концентрацией. К тому же данные виды получения энергии несут в себе собственные риски для экологии туризма («грязное» производство фотоэлектрических элементов, опасность ветряных станций для птиц, изменение динамики волн. В настоящее время разрабатываются международные проекты ядерных реакторов нового поколения, которые позволяют повысить безопасность и увеличить КПД АЭС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ША и Япония ведут разработки мини-АЭС, с помощью порядка10-20 МВт для целей тепло- и электроснабжения отдельных производств, жилых комплексов, а в перспективе и индивидуальных домов. С уменьшением мощности установки расчёт предполагаемый масштаб производства. Малогабаритные реакторы создаются с использованием безопасных технологий, многогратно уменьшающих возможность утечки ядерного ве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50920" y="404640"/>
            <a:ext cx="8497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ссия приступила к строительству первой в мире плавающей АЭС, позволяющей решить проблему нехватки энергии в отдалённых прибрежных районах страны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Площадки строительства АЭС, как правило, не допускается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онах активного кар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тяжёлых оползней и селевых пото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возможного действия снежных лави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заболоченных и переувлажнённых с постоянным притоком напорных грунтовых в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онах крупных провалов в результате горных выработ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, подверженных воздействию катастрофических явлений, как цунами и т.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залегания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7"/>
          <p:cNvSpPr/>
          <p:nvPr/>
        </p:nvSpPr>
        <p:spPr>
          <a:xfrm>
            <a:off x="684360" y="620640"/>
            <a:ext cx="3024000" cy="115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611280" y="2781360"/>
            <a:ext cx="298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делать вывод о том какой из видов энергии лучше или опаснее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68360" y="2708280"/>
            <a:ext cx="309564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делать вывод о том 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й из видов энергии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учше или опаснее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2050920" y="1773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5364000" y="476280"/>
            <a:ext cx="2592720" cy="115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3924360" y="2708280"/>
            <a:ext cx="237636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ить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асность каждой 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видов 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ектростанций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732720" y="2708280"/>
            <a:ext cx="208728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ить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ьтернативы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я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томной энергии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гольной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6" name="Line 17"/>
          <p:cNvSpPr/>
          <p:nvPr/>
        </p:nvSpPr>
        <p:spPr>
          <a:xfrm flipH="1">
            <a:off x="5003640" y="1628640"/>
            <a:ext cx="1656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6659640" y="1628640"/>
            <a:ext cx="1152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72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Атомные станции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настоящее время в Российской Федерации на 10 действующих АЭС эксплуатируется 31 энергоблок общей мощностью 23243 МВт, из них 15 реакторов с водой под давлением; 15 канальных кипящих реакторов, 1 на быстрых нейтрона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опрос 2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23640" y="126792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Достоинства и недостатки тепловых электростанций, работающих на угл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7" descr="C:\Users\user\Desktop\yatağan 1.jpg"/>
          <p:cNvPicPr/>
          <p:nvPr/>
        </p:nvPicPr>
        <p:blipFill>
          <a:blip r:embed="rId1"/>
          <a:stretch/>
        </p:blipFill>
        <p:spPr>
          <a:xfrm>
            <a:off x="2143080" y="3429000"/>
            <a:ext cx="47116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24000" y="422100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80% всей электроэнергии в нашей стране вырабатывается на ТЭС на всех видах топлива (природног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6" descr="oblast_1182506171"/>
          <p:cNvPicPr/>
          <p:nvPr/>
        </p:nvPicPr>
        <p:blipFill>
          <a:blip r:embed="rId1"/>
          <a:stretch/>
        </p:blipFill>
        <p:spPr>
          <a:xfrm>
            <a:off x="1763640" y="189000"/>
            <a:ext cx="56167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стоинства ТЭ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танции используется небольшая площад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удельная теплота сгорания уг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тота хранения угля, пригодность к непосредственному использованию уг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Tahoma"/>
              </a:rPr>
              <a:t>Недостатки ТЭ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21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о загрязняют атмосферу сернистыми и азотными соединениями, углекислым газом, создают парниковый эффект, кисл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жди и т.д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5" descr="ТЭС рис"/>
          <p:cNvPicPr/>
          <p:nvPr/>
        </p:nvPicPr>
        <p:blipFill>
          <a:blip r:embed="rId1"/>
          <a:stretch/>
        </p:blipFill>
        <p:spPr>
          <a:xfrm>
            <a:off x="4211640" y="3933720"/>
            <a:ext cx="3456000" cy="2662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term-4"/>
          <p:cNvPicPr/>
          <p:nvPr/>
        </p:nvPicPr>
        <p:blipFill>
          <a:blip r:embed="rId2"/>
          <a:stretch/>
        </p:blipFill>
        <p:spPr>
          <a:xfrm>
            <a:off x="6156360" y="1557360"/>
            <a:ext cx="25923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уют большое количество площадей для добычи угля, рельеф портится шахт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5" descr="thumbnail"/>
          <p:cNvPicPr/>
          <p:nvPr/>
        </p:nvPicPr>
        <p:blipFill>
          <a:blip r:embed="rId1"/>
          <a:stretch/>
        </p:blipFill>
        <p:spPr>
          <a:xfrm>
            <a:off x="5508720" y="25653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thumbnail1"/>
          <p:cNvPicPr/>
          <p:nvPr/>
        </p:nvPicPr>
        <p:blipFill>
          <a:blip r:embed="rId2"/>
          <a:stretch/>
        </p:blipFill>
        <p:spPr>
          <a:xfrm>
            <a:off x="468360" y="3182760"/>
            <a:ext cx="4464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охлаждающей ТЭС в ближайшие водоёмы сбрасывается большое количество тепла. Это приводит к повышению температуры водоё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Picture 4" descr="santral1"/>
          <p:cNvPicPr/>
          <p:nvPr/>
        </p:nvPicPr>
        <p:blipFill>
          <a:blip r:embed="rId1"/>
          <a:stretch/>
        </p:blipFill>
        <p:spPr>
          <a:xfrm>
            <a:off x="2340000" y="3500280"/>
            <a:ext cx="4032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66"/>
                </a:solidFill>
                <a:uFillTx/>
                <a:latin typeface="Tahoma"/>
              </a:rPr>
              <a:t>ВЫВО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9280" y="1844280"/>
            <a:ext cx="8209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так, мы рассмотрели два типа электростанций. И АЭС и ТЭС вредны как для экологии, так и для приро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чники информ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wikipedia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www.images.googl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www.bing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опрос 1:</a:t>
            </a:r>
            <a:br>
              <a:rPr sz="4000"/>
            </a:br>
            <a:br>
              <a:rPr sz="4000"/>
            </a:br>
            <a:r>
              <a:rPr b="1" i="1" lang="ru-RU" sz="4800" spc="-1" strike="noStrike" u="sng">
                <a:solidFill>
                  <a:srgbClr val="ffffcc"/>
                </a:solidFill>
                <a:uFillTx/>
                <a:latin typeface="Tahoma"/>
              </a:rPr>
              <a:t>Достоинства и </a:t>
            </a:r>
            <a:br>
              <a:rPr sz="4800"/>
            </a:br>
            <a:r>
              <a:rPr b="1" i="1" lang="ru-RU" sz="4800" spc="-1" strike="noStrike" u="sng">
                <a:solidFill>
                  <a:srgbClr val="ffffcc"/>
                </a:solidFill>
                <a:uFillTx/>
                <a:latin typeface="Tahoma"/>
              </a:rPr>
              <a:t>недостатки атомных электростанций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9" name="Picture 6" descr="300px-Centrale-nucleaire-civaux"/>
          <p:cNvPicPr/>
          <p:nvPr/>
        </p:nvPicPr>
        <p:blipFill>
          <a:blip r:embed="rId1"/>
          <a:stretch/>
        </p:blipFill>
        <p:spPr>
          <a:xfrm>
            <a:off x="4211640" y="3973680"/>
            <a:ext cx="45133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мире существует около 420 атомных реакторов. У нас в стране 14% всей энергии вырабатывается АЭС. Первая в мире АЭС была пущена в 1954 году в СССР в г. Обнинске.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1" name="Picture 5" descr="БИЛИБИНСКАЯ АТОМНАЯ ТЕПЛО-ЭЛЕКТРОЦЕНТРАЛЬ. Магаданская область. Машинный зал"/>
          <p:cNvPicPr/>
          <p:nvPr/>
        </p:nvPicPr>
        <p:blipFill>
          <a:blip r:embed="rId1"/>
          <a:stretch/>
        </p:blipFill>
        <p:spPr>
          <a:xfrm>
            <a:off x="3276720" y="2997360"/>
            <a:ext cx="539244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36144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. Балаков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2.Калинин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3.Коль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4.Нововоронеж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5.Кур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6.Ленинград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7.Смолен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8.Белояр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9.Билибинская (на Чукотке, самая маленькая)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0.Обнинская – маленькая, существует как экспериментальная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692360" y="1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</a:rPr>
              <a:t>Сейчас у нас их 9:</a:t>
            </a:r>
            <a:br>
              <a:rPr sz="3600"/>
            </a:b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олько в черте Москвы 8 работающих реакторов, 7 из них – в институте Курчат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5" name="Picture 8" descr="Атомная электростанция"/>
          <p:cNvPicPr/>
          <p:nvPr/>
        </p:nvPicPr>
        <p:blipFill>
          <a:blip r:embed="rId1"/>
          <a:stretch/>
        </p:blipFill>
        <p:spPr>
          <a:xfrm>
            <a:off x="2050920" y="2924280"/>
            <a:ext cx="4680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00"/>
                </a:solidFill>
                <a:latin typeface="Tahoma"/>
              </a:rPr>
              <a:t>Достоинства атомных станц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большой объём используемого топлива и возможность его повторного использования после переработки (для сравнения, одна только Троицкая ГРЭС мощностью 2000 МВт сжигает за сутки два железнодорожных состава угл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180px-Yearly_fuel_of_a_nuclear_power_plant"/>
          <p:cNvPicPr/>
          <p:nvPr/>
        </p:nvPicPr>
        <p:blipFill>
          <a:blip r:embed="rId1"/>
          <a:stretch/>
        </p:blipFill>
        <p:spPr>
          <a:xfrm>
            <a:off x="395280" y="692280"/>
            <a:ext cx="5043600" cy="56163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5651640" y="1467360"/>
            <a:ext cx="34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ый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топлива, используемого за год одним реактором типа ВВЭР-1000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мощность: 1000 – 1600 МВт на энергобл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ая себестоимость энергии, особенно теплов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сть размещения в регионах, расположенных вдали от крупных водоэнергетических ресурсов, крупных месторождений угля, в местах, где ограничены возможности для использования солнечной или ветряной электроэнергетик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4:00:04Z</dcterms:created>
  <dc:creator>Kirill</dc:creator>
  <dc:description/>
  <dc:language>en-US</dc:language>
  <cp:lastModifiedBy>Данилов</cp:lastModifiedBy>
  <dcterms:modified xsi:type="dcterms:W3CDTF">2009-12-20T21:44:30Z</dcterms:modified>
  <cp:revision>26</cp:revision>
  <dc:subject/>
  <dc:title>Атомные электростанции или угольные – что лучше?</dc:title>
</cp:coreProperties>
</file>